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28.jpeg" ContentType="image/jpeg"/>
  <Override PartName="/ppt/media/whoosh.wav" ContentType="audio/x-wav"/>
  <Override PartName="/ppt/media/image18.png" ContentType="image/png"/>
  <Override PartName="/ppt/media/image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C97-510A-47BE-A14A-CD8B6C70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92D-F701-4F70-BA9A-E5925BDE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E83-7FDD-4247-9DF0-811D1E37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355-5026-4255-A64F-05A4F721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F6E-33DA-4333-9FD3-F8568763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A87-3878-4199-90B7-5A31E56E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374-FF87-4A61-A2D3-60D9E555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F0F-0F59-4BF3-8978-47C77A3E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D1C-0364-4384-B285-E42C1E3D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6DB-CC10-4D79-9C37-D09EFD4B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BF5-560C-4CF8-B74E-3B974385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429A-16B5-40D1-9D8A-69377476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ffff00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0A42-1B69-47E3-934D-B6E746B27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YOUNG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what you think is happening with the following child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making assumption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ment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9625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ie has difficulty sha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ie never sh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Image"/>
          <p:cNvPicPr/>
          <p:nvPr/>
        </p:nvPicPr>
        <p:blipFill>
          <a:blip r:embed="rId1"/>
          <a:stretch/>
        </p:blipFill>
        <p:spPr>
          <a:xfrm>
            <a:off x="5105520" y="255276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labels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statement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ttp://www.drudion.org.uk/scarey_kids.jpg"/>
          <p:cNvPicPr/>
          <p:nvPr/>
        </p:nvPicPr>
        <p:blipFill>
          <a:blip r:embed="rId1"/>
          <a:stretch/>
        </p:blipFill>
        <p:spPr>
          <a:xfrm>
            <a:off x="3809880" y="1905120"/>
            <a:ext cx="485928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68580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0" y="202104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often acts out h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ssive feel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is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conclusions you are n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fied to mak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3320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Picture of teacher helping child"/>
          <p:cNvPicPr/>
          <p:nvPr/>
        </p:nvPicPr>
        <p:blipFill>
          <a:blip r:embed="rId1"/>
          <a:stretch/>
        </p:blipFill>
        <p:spPr>
          <a:xfrm>
            <a:off x="4724280" y="2057400"/>
            <a:ext cx="3699000" cy="22780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748080" y="1944720"/>
            <a:ext cx="419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e can’t do anything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mself because he i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est in a larg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y do everything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ie needs to develop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o things for him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compare children: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evelop at different rat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statement is corr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04720" y="81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www.dirtragmag.com/staff/brad/derby4%20darren%20falling%20down.jpg"/>
          <p:cNvPicPr/>
          <p:nvPr/>
        </p:nvPicPr>
        <p:blipFill>
          <a:blip r:embed="rId1"/>
          <a:stretch/>
        </p:blipFill>
        <p:spPr>
          <a:xfrm>
            <a:off x="3276720" y="2457360"/>
            <a:ext cx="5410080" cy="4057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593640" y="1981080"/>
            <a:ext cx="4969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falls off his bike a 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96160" y="3544920"/>
            <a:ext cx="262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my must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. 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ride 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ke as well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OBJECTIV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 observations simply state the fa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important but difficult to remain objective at all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rst thing to record when observing is an objective list of behavior patter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BE SUBJECTIV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ive observations state an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in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observ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808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s must b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id fac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object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C:\Documents and Settings\Bruce\My Documents\My Pictures\soft-clouds-blue-sky.jpg"/>
          <p:cNvPicPr/>
          <p:nvPr/>
        </p:nvPicPr>
        <p:blipFill>
          <a:blip r:embed="rId1"/>
          <a:stretch/>
        </p:blipFill>
        <p:spPr>
          <a:xfrm>
            <a:off x="5334120" y="1523880"/>
            <a:ext cx="3230280" cy="1919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C:\Documents and Settings\Bruce\My Documents\My Pictures\rock.jpg"/>
          <p:cNvPicPr/>
          <p:nvPr/>
        </p:nvPicPr>
        <p:blipFill>
          <a:blip r:embed="rId2"/>
          <a:stretch/>
        </p:blipFill>
        <p:spPr>
          <a:xfrm>
            <a:off x="5410080" y="3962520"/>
            <a:ext cx="2673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cide which statements about the following children are Subjective and which are Objectiv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twssnake3"/>
          <p:cNvPicPr/>
          <p:nvPr/>
        </p:nvPicPr>
        <p:blipFill>
          <a:blip r:embed="rId1"/>
          <a:stretch/>
        </p:blipFill>
        <p:spPr>
          <a:xfrm>
            <a:off x="609480" y="533520"/>
            <a:ext cx="7867800" cy="5227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599400" y="5827680"/>
            <a:ext cx="825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looks away when the teacher showed him a snake.  Her said, “I don’t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kes, they feel funn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was afraid because he said he didn’t like snak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715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Playing with MusicBlocks"/>
          <p:cNvPicPr/>
          <p:nvPr/>
        </p:nvPicPr>
        <p:blipFill>
          <a:blip r:embed="rId1"/>
          <a:stretch/>
        </p:blipFill>
        <p:spPr>
          <a:xfrm>
            <a:off x="4419720" y="2514600"/>
            <a:ext cx="4046400" cy="3543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80880" y="259092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was playing with the music blocks.  When Carly &amp; Josh asked to play, Tyler agreed and showed them h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27640" y="5731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ler is a good boy and gets along well with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Swinging"/>
          <p:cNvPicPr/>
          <p:nvPr/>
        </p:nvPicPr>
        <p:blipFill>
          <a:blip r:embed="rId1"/>
          <a:stretch/>
        </p:blipFill>
        <p:spPr>
          <a:xfrm>
            <a:off x="304920" y="228600"/>
            <a:ext cx="398448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937040" y="496800"/>
            <a:ext cx="374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die wanted to swing but two others were already there.  S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ed up a rock and threw it a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01440" y="4840200"/>
            <a:ext cx="753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die got mad and threw a rock because she do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hare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Untitled-27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54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822240" y="6208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749880" y="6208560"/>
            <a:ext cx="42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ey is sitting on the slide, just 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bservations are confidential, should be filed and any problems should only be reported to the dir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BUSH2"/>
          <p:cNvPicPr/>
          <p:nvPr/>
        </p:nvPicPr>
        <p:blipFill>
          <a:blip r:embed="rId1"/>
          <a:stretch/>
        </p:blipFill>
        <p:spPr>
          <a:xfrm>
            <a:off x="5867280" y="1676520"/>
            <a:ext cx="296388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G:\CONFIDEN.TIF"/>
          <p:cNvPicPr/>
          <p:nvPr/>
        </p:nvPicPr>
        <p:blipFill>
          <a:blip r:embed="rId2"/>
          <a:stretch/>
        </p:blipFill>
        <p:spPr>
          <a:xfrm>
            <a:off x="1219320" y="373392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DIVERSIT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help identify disabled children with special needs and assess developmental stages and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C:\Documents and Settings\Wendy\My Documents\My Pictures\funplay6.jpg"/>
          <p:cNvPicPr/>
          <p:nvPr/>
        </p:nvPicPr>
        <p:blipFill>
          <a:blip r:embed="rId1"/>
          <a:stretch/>
        </p:blipFill>
        <p:spPr>
          <a:xfrm>
            <a:off x="762120" y="3657600"/>
            <a:ext cx="4267080" cy="2560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C:\Documents and Settings\Wendy\My Documents\My Pictures\disability.jpg"/>
          <p:cNvPicPr/>
          <p:nvPr/>
        </p:nvPicPr>
        <p:blipFill>
          <a:blip r:embed="rId2"/>
          <a:stretch/>
        </p:blipFill>
        <p:spPr>
          <a:xfrm>
            <a:off x="6477120" y="2209680"/>
            <a:ext cx="2288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SSESS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 Self-ref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(Individual or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Portf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SE COMPARE TO THE GOOD OLD REPORT C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grades easy to interpr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the grades really reflect how a student is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report cards culturally bia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teachers seem to have a set of stock comments or do they consider each individ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report cards reflect positive or negative views of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students are “above averag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YOU EVALUATE PROBLEM SOLVING SKI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skills are valued more than the acquisition of f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problem solving be assessed at a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uld a test be a good evaluation of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could a teacher demonstrate learning of problem solving ski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f a school requires standardized comparative te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would test performance of an autonomous student differ from a fact lear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D SAMPL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ations taken at set interv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822240" y="3160800"/>
            <a:ext cx="474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5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every 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clock"/>
          <p:cNvPicPr/>
          <p:nvPr/>
        </p:nvPicPr>
        <p:blipFill>
          <a:blip r:embed="rId1"/>
          <a:stretch/>
        </p:blipFill>
        <p:spPr>
          <a:xfrm>
            <a:off x="5486400" y="3124080"/>
            <a:ext cx="316224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L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record of how often behavior happens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447920" y="3276720"/>
            <a:ext cx="6476760" cy="2438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ohn:  Nov. 2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ggressive Behavio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9: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: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1: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 SAMPL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Incident Recor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ing exactly what happens during a particular event, da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822240" y="2987640"/>
            <a:ext cx="336888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of a new behavior from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information about when and how this hap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C:\Documents and Settings\Wendy\My Documents\My Pictures\montessori.jpg"/>
          <p:cNvPicPr/>
          <p:nvPr/>
        </p:nvPicPr>
        <p:blipFill>
          <a:blip r:embed="rId1"/>
          <a:stretch/>
        </p:blipFill>
        <p:spPr>
          <a:xfrm>
            <a:off x="3962520" y="2819520"/>
            <a:ext cx="49370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est form of observation where the observer checks off listed behavi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130400" y="3087720"/>
            <a:ext cx="32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 “Report Car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evaluate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C:\Documents and Settings\Bruce\My Documents\My Pictures\check list.gif"/>
          <p:cNvPicPr/>
          <p:nvPr/>
        </p:nvPicPr>
        <p:blipFill>
          <a:blip r:embed="rId1"/>
          <a:stretch/>
        </p:blipFill>
        <p:spPr>
          <a:xfrm>
            <a:off x="4724280" y="2743200"/>
            <a:ext cx="36799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RATIV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ritten summary of the conclusions of the observations or activities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writing"/>
          <p:cNvPicPr/>
          <p:nvPr/>
        </p:nvPicPr>
        <p:blipFill>
          <a:blip r:embed="rId1"/>
          <a:stretch/>
        </p:blipFill>
        <p:spPr>
          <a:xfrm>
            <a:off x="2133720" y="2670120"/>
            <a:ext cx="4952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icture29"/>
          <p:cNvPicPr/>
          <p:nvPr/>
        </p:nvPicPr>
        <p:blipFill>
          <a:blip r:embed="rId1"/>
          <a:stretch/>
        </p:blipFill>
        <p:spPr>
          <a:xfrm>
            <a:off x="3886200" y="152280"/>
            <a:ext cx="4424400" cy="6400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65040" y="34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68640" y="3389400"/>
            <a:ext cx="298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er usually likes to pl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himself, but chose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Zac today.  If he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friend it is usu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c or Jacob.  He love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fun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ECDOTAL REC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records observations of child’s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est hunches about reasons for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nditions that reinforce behavior by noticing what happens prior to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feedback about what children may have learned from a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OF CHIL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771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COLLECTIONS OF THE CHILD’S WORK, AND PICTURES OF THE CHILD, INCLUDING OBSERVATIONS ABOUT WHAT THE CHILD IS DOING I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communicate with 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to assess individual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or teacher account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contain teacher observations &amp;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Literacy:  Letters, reading, compu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icture10"/>
          <p:cNvPicPr/>
          <p:nvPr/>
        </p:nvPicPr>
        <p:blipFill>
          <a:blip r:embed="rId1"/>
          <a:stretch/>
        </p:blipFill>
        <p:spPr>
          <a:xfrm>
            <a:off x="4419720" y="3317760"/>
            <a:ext cx="4500360" cy="3259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Picture34"/>
          <p:cNvPicPr/>
          <p:nvPr/>
        </p:nvPicPr>
        <p:blipFill>
          <a:blip r:embed="rId2"/>
          <a:stretch/>
        </p:blipFill>
        <p:spPr>
          <a:xfrm>
            <a:off x="1143000" y="2819520"/>
            <a:ext cx="2932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Arts:  Ar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Picture6"/>
          <p:cNvPicPr/>
          <p:nvPr/>
        </p:nvPicPr>
        <p:blipFill>
          <a:blip r:embed="rId1"/>
          <a:stretch/>
        </p:blipFill>
        <p:spPr>
          <a:xfrm>
            <a:off x="1600200" y="2286000"/>
            <a:ext cx="55576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&amp; Math:  Science activities, math and small manipul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icture16"/>
          <p:cNvPicPr/>
          <p:nvPr/>
        </p:nvPicPr>
        <p:blipFill>
          <a:blip r:embed="rId1"/>
          <a:stretch/>
        </p:blipFill>
        <p:spPr>
          <a:xfrm>
            <a:off x="5181480" y="2743200"/>
            <a:ext cx="3170520" cy="3809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icture35"/>
          <p:cNvPicPr/>
          <p:nvPr/>
        </p:nvPicPr>
        <p:blipFill>
          <a:blip r:embed="rId2"/>
          <a:stretch/>
        </p:blipFill>
        <p:spPr>
          <a:xfrm>
            <a:off x="838080" y="2819520"/>
            <a:ext cx="36655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kills:  Dramatic play &amp;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Picture33"/>
          <p:cNvPicPr/>
          <p:nvPr/>
        </p:nvPicPr>
        <p:blipFill>
          <a:blip r:embed="rId1"/>
          <a:stretch/>
        </p:blipFill>
        <p:spPr>
          <a:xfrm>
            <a:off x="5510160" y="2286000"/>
            <a:ext cx="2916360" cy="4419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Picture7"/>
          <p:cNvPicPr/>
          <p:nvPr/>
        </p:nvPicPr>
        <p:blipFill>
          <a:blip r:embed="rId2"/>
          <a:stretch/>
        </p:blipFill>
        <p:spPr>
          <a:xfrm>
            <a:off x="838080" y="2286000"/>
            <a:ext cx="41515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Motor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oor play, &amp;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Untitled-3"/>
          <p:cNvPicPr/>
          <p:nvPr/>
        </p:nvPicPr>
        <p:blipFill>
          <a:blip r:embed="rId1"/>
          <a:stretch/>
        </p:blipFill>
        <p:spPr>
          <a:xfrm>
            <a:off x="380880" y="3429000"/>
            <a:ext cx="4800600" cy="327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Untitled-35"/>
          <p:cNvPicPr/>
          <p:nvPr/>
        </p:nvPicPr>
        <p:blipFill>
          <a:blip r:embed="rId2"/>
          <a:stretch/>
        </p:blipFill>
        <p:spPr>
          <a:xfrm>
            <a:off x="4267080" y="1676520"/>
            <a:ext cx="46324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CATEGO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Events:  Birthdays, Christmas, Field Tr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Untitled-15"/>
          <p:cNvPicPr/>
          <p:nvPr/>
        </p:nvPicPr>
        <p:blipFill>
          <a:blip r:embed="rId1"/>
          <a:stretch/>
        </p:blipFill>
        <p:spPr>
          <a:xfrm>
            <a:off x="228600" y="3048120"/>
            <a:ext cx="5334120" cy="3224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icture53"/>
          <p:cNvPicPr/>
          <p:nvPr/>
        </p:nvPicPr>
        <p:blipFill>
          <a:blip r:embed="rId2"/>
          <a:stretch/>
        </p:blipFill>
        <p:spPr>
          <a:xfrm>
            <a:off x="6019920" y="2438280"/>
            <a:ext cx="2904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IZED EDUCATION PLAN (IEP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hildren with spec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description of curren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goals and objec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services needed to meet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eria for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Picture31"/>
          <p:cNvPicPr/>
          <p:nvPr/>
        </p:nvPicPr>
        <p:blipFill>
          <a:blip r:embed="rId1"/>
          <a:stretch/>
        </p:blipFill>
        <p:spPr>
          <a:xfrm>
            <a:off x="2971800" y="304920"/>
            <a:ext cx="5508720" cy="5986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69720" y="3389400"/>
            <a:ext cx="263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mryn is barel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as a har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ing awake.  M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s she gets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 so we wonder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ould be a phys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or an emo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ture5"/>
          <p:cNvPicPr/>
          <p:nvPr/>
        </p:nvPicPr>
        <p:blipFill>
          <a:blip r:embed="rId1"/>
          <a:stretch/>
        </p:blipFill>
        <p:spPr>
          <a:xfrm>
            <a:off x="228600" y="374760"/>
            <a:ext cx="8639280" cy="5521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72600" y="6056280"/>
            <a:ext cx="79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in often plays with play dough.  He has chosen to roll and cut with cook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ters today.  Other favorite activities are dress ups and puzz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9" descr="volcanoeruption2"/>
          <p:cNvPicPr/>
          <p:nvPr/>
        </p:nvPicPr>
        <p:blipFill>
          <a:blip r:embed="rId1"/>
          <a:stretch/>
        </p:blipFill>
        <p:spPr>
          <a:xfrm>
            <a:off x="609480" y="152280"/>
            <a:ext cx="7934400" cy="5639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30"/>
          <p:cNvSpPr/>
          <p:nvPr/>
        </p:nvSpPr>
        <p:spPr>
          <a:xfrm>
            <a:off x="540360" y="5943600"/>
            <a:ext cx="80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ttle girl behind the teacher is not able to get inside the group to see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appening.  She just stands there and watches the 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30"/>
          <p:cNvSpPr/>
          <p:nvPr/>
        </p:nvSpPr>
        <p:spPr>
          <a:xfrm>
            <a:off x="1073880" y="6019920"/>
            <a:ext cx="68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y was fighting with John, Joe saw them fighting and deci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lp Danny.  Joe said, “I’ll help you out, Dann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32" descr="C:\Documents and Settings\Bruce\My Documents\My Pictures\fight.jpg"/>
          <p:cNvPicPr/>
          <p:nvPr/>
        </p:nvPicPr>
        <p:blipFill>
          <a:blip r:embed="rId1"/>
          <a:stretch/>
        </p:blipFill>
        <p:spPr>
          <a:xfrm>
            <a:off x="2209680" y="838080"/>
            <a:ext cx="4381560" cy="43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OB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servation is watching children with the clear goal of studying a specific behavior or 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200400" y="3319560"/>
            <a:ext cx="556272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order to challenge and support the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31360" y="5029200"/>
            <a:ext cx="80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 realistic curriculum and go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OBSE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best to observe from a distance without the child knowing they are being observ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C:\Documents and Settings\Wendy\My Documents\My Pictures\surveilance camera.gif"/>
          <p:cNvPicPr/>
          <p:nvPr/>
        </p:nvPicPr>
        <p:blipFill>
          <a:blip r:embed="rId1"/>
          <a:stretch/>
        </p:blipFill>
        <p:spPr>
          <a:xfrm>
            <a:off x="5257800" y="1981080"/>
            <a:ext cx="371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6:20:25Z</dcterms:created>
  <dc:creator>Wendy Crapo</dc:creator>
  <dc:description/>
  <dc:language>en-US</dc:language>
  <cp:lastModifiedBy>Eliss Herman</cp:lastModifiedBy>
  <dcterms:modified xsi:type="dcterms:W3CDTF">2013-09-06T02:19:25Z</dcterms:modified>
  <cp:revision>10</cp:revision>
  <dc:subject/>
  <dc:title>OBSERVING YOUNG CHILDREN</dc:title>
</cp:coreProperties>
</file>